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9570-66BD-41AD-854F-3EB1503C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3AEA-FA87-4E27-A45C-6B12F40A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D0E3-548D-4E6D-839F-F13F3380B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C63A-6496-457D-9DA0-A4E2E146C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08A0-69B2-426E-841A-8B622727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D149-BE32-4992-AA0A-FDF358DE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E8AF-AE6E-4EB4-8D11-AB85CA88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53A9-3062-4FA0-9860-8BCB7D3C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142F-83BA-4A47-8FA8-8F040507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2822-4D05-4348-AD58-59804B39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0C51-57FB-41EE-A1F1-99641E5F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5D97-166C-4982-ACB1-B2CDBD0C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A5F9-D5DA-42FA-B033-7DC23F665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2565360"/>
            <a:ext cx="1871640" cy="1584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kbar"/>
              </a:rPr>
              <a:t>45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4437000"/>
            <a:ext cx="4608360" cy="2087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000000"/>
                </a:solidFill>
                <a:latin typeface="Brady Bunch"/>
              </a:rPr>
              <a:t>456.7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49360"/>
            <a:ext cx="4174920" cy="1584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Porky's"/>
              </a:rPr>
              <a:t>476.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2565360"/>
            <a:ext cx="2592360" cy="1224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.C.M.E. Secret Agent"/>
              </a:rPr>
              <a:t>45.6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32360" y="260280"/>
            <a:ext cx="3816360" cy="1584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Buffied"/>
              </a:rPr>
              <a:t>4.56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80000" y="4437000"/>
            <a:ext cx="3097440" cy="1944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Bradley Hand ITC"/>
              </a:rPr>
              <a:t>456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56360" y="2349360"/>
            <a:ext cx="2663640" cy="1656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465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9:53:53Z</dcterms:created>
  <dc:creator>Betsan Wyn Thomas</dc:creator>
  <dc:description/>
  <dc:language>en-US</dc:language>
  <cp:lastModifiedBy>Betsan Wyn Thomas</cp:lastModifiedBy>
  <dcterms:modified xsi:type="dcterms:W3CDTF">2008-09-08T21:35:55Z</dcterms:modified>
  <cp:revision>2</cp:revision>
  <dc:subject/>
  <dc:title>Slide 1</dc:title>
</cp:coreProperties>
</file>